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28D-8E0C-41FE-9301-D9200084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BF7-6740-4EA4-98BD-D8949411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3D9-A34F-4ADF-982E-1EADDB02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2D3-9B37-4A27-B622-2877852A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EAC8-3C9A-458F-BC3E-A087A724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B6A3-E4FA-4EB5-86BD-C91641B7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6363-8CC5-4429-9880-375D27A4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CD66-77FF-4874-9BC0-15457C7B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C7B7-021A-4994-A729-E9B9AD8F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C9CF-1B9E-4176-B744-FB7A6A21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0C31-944C-4D24-AB41-83D38E4F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059-27B1-4729-A7D6-41360729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0C54-6294-45FD-BDC0-4F256C7F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8921-5E2C-4152-B841-719112C9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13EA-4C3C-4547-9DF4-417F50E7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5621-2B9E-4A2B-9210-4B3999A8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526C-1F51-40E1-A81C-DC5E1EDA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BAA-9C8A-4416-9A16-9D7D8D82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E22-D40D-4315-A9C8-DCF25D8D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A2F-8D27-4783-B5CC-3C3B9624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99E-3A37-4C1C-AD9D-CB908AA4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02F-AED7-4DC7-A8B0-90B05FA6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C72-DDCE-4B2D-AA3E-0E688EC8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94A-5477-4599-9256-C5E70E32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AEA1-72B9-46E9-8D46-72F08C3C03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BB56-CB8E-4BE6-AF7E-D6AF048DF62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8 класс: Теорема Пифагор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9 класс: Теорема синусов. Теорема                       косинус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3933720"/>
            <a:ext cx="6840360" cy="24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Умение решать задачи – такое же практическое искусство. Ему можно научиться только путем подражания или упражн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16000" y="2637000"/>
          <a:ext cx="6000840" cy="2844720"/>
        </p:xfrm>
        <a:graphic>
          <a:graphicData uri="http://schemas.openxmlformats.org/drawingml/2006/table">
            <a:tbl>
              <a:tblPr/>
              <a:tblGrid>
                <a:gridCol w="1000080"/>
                <a:gridCol w="1000440"/>
                <a:gridCol w="1000080"/>
                <a:gridCol w="1000080"/>
                <a:gridCol w="1000080"/>
                <a:gridCol w="1000080"/>
              </a:tblGrid>
              <a:tr h="14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ебудет вечной истина, как скор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е познает слабый человек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ыне теорема Пифаго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ерна, как и в его далекий в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спорилось нужное дело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в жизни не знать неудач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ы на поиск отправимся смело –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мир загадок и сложных задач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беда, что идти далеко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е бойтесь, что путь будет труден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остижения крупные людям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икогда не давались легко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5899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Геометрия владеет двумя сокровищами: одно из них – теорема Пифагора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…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                                           И. Кепле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res06F9589B-85BB-44D7-BF57-4F19C71ABAD9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816200" cy="235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332000" y="333360"/>
            <a:ext cx="49435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теты прямоугольного треугольника равны 3 см и 4 см. Верно ли, что гипотенуза этого треугольника равн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) 7 см;         б) 5 см             в) 25 см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дин из катетов прямоугольного треугольника равен 8 см, а гипотенуза – 10 см. Верно ли, что второй катет этого треугольника равен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2 см;         б) 6 см         в) 10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ве стороны треугольника равны 10 см и 5 см. Какой должна быть третья сторона треугольника, чтобы  он был прямоугольным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15 см;     б) 125 см;     в) 5√5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6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ой из треугольников является прямоугольным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Со сторонами: 2 см; 4 см; 2√3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) Со сторонами: 6 см; 8 см; 14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) Со сторонами: 5 см; 4 см; 20 см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28:52Z</dcterms:created>
  <dc:creator>Мелкомуковы</dc:creator>
  <dc:description/>
  <dc:language>en-US</dc:language>
  <cp:lastModifiedBy>*****</cp:lastModifiedBy>
  <dcterms:modified xsi:type="dcterms:W3CDTF">2012-12-27T04:28:12Z</dcterms:modified>
  <cp:revision>5</cp:revision>
  <dc:subject/>
  <dc:title>8 класс: Теорема Пифагора 9 класс: Решение треугольников</dc:title>
</cp:coreProperties>
</file>